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9FE-8E37-425C-8F7E-0E56F6A0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A64-D313-4915-9371-033F323F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A8C-A28B-4940-8451-A5FA7A42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F26-98BE-44EA-93F5-8B480686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584-0D5D-4575-AAD5-32943BFF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6DE-3B06-4950-926A-8DB50F73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27C-CAB6-432D-8E7E-7D30A1E3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BB2-8F64-41EC-9268-9BEA5B61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1CC-22B0-49FC-82EB-51C2A7A4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706-10C2-487E-B866-BE129357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813-C526-4272-8BF5-E16EBBB4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85F-F515-46FD-B89E-DA3E84C1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5C6C-F8BC-4FDE-9FC8-B1D3E82F20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mplated.ru/abstrakciya/55-zavihreniya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204640"/>
            <a:ext cx="59054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12c1b"/>
                </a:solidFill>
                <a:latin typeface="Arial"/>
              </a:rPr>
              <a:t>Деепричастия как часть речи</a:t>
            </a:r>
            <a:br>
              <a:rPr sz="6000"/>
            </a:br>
            <a:r>
              <a:rPr b="1" lang="ru-RU" sz="3200" spc="-1" strike="noStrike">
                <a:solidFill>
                  <a:srgbClr val="512c1b"/>
                </a:solidFill>
                <a:latin typeface="Arial"/>
              </a:rPr>
              <a:t>7 класс, УМК под ред. Ладыжен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1042920" y="400536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920" y="2204640"/>
            <a:ext cx="59054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12c1b"/>
                </a:solidFill>
                <a:latin typeface="Arial"/>
              </a:rPr>
              <a:t>Автор: учитель русского языка и литературы </a:t>
            </a:r>
            <a:br>
              <a:rPr sz="3200"/>
            </a:br>
            <a:r>
              <a:rPr b="1" lang="ru-RU" sz="3200" spc="-1" strike="noStrike">
                <a:solidFill>
                  <a:srgbClr val="512c1b"/>
                </a:solidFill>
                <a:latin typeface="Arial"/>
              </a:rPr>
              <a:t>Кабирова П.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2"/>
          <p:cNvSpPr/>
          <p:nvPr/>
        </p:nvSpPr>
        <p:spPr>
          <a:xfrm>
            <a:off x="1042920" y="400536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ранее изученную тему «Причастие как часть речи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учащихся самостоятельно работать с текстом учебника и заполнять табли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 первичное  закрепление навыка по созданию деепричас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ставьте пропущенные буквы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запяты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79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2c1b"/>
                </a:solidFill>
                <a:latin typeface="Arial"/>
              </a:rPr>
              <a:t>Вы должны сохр..нить среза(н,нн)ые цв..ты добавив в воду н..много аспирина или н..сколько криста(л,лл)иков лимо(н,нн)ой кислоты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1413000"/>
          <a:ext cx="8640720" cy="4443120"/>
        </p:xfrm>
        <a:graphic>
          <a:graphicData uri="http://schemas.openxmlformats.org/drawingml/2006/table">
            <a:tbl>
              <a:tblPr/>
              <a:tblGrid>
                <a:gridCol w="1846080"/>
                <a:gridCol w="3249720"/>
                <a:gridCol w="354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Несовершенного 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Совершенного 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От каких  глаголов образует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Суффик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Приме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Проверим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1413000"/>
          <a:ext cx="8640720" cy="4443120"/>
        </p:xfrm>
        <a:graphic>
          <a:graphicData uri="http://schemas.openxmlformats.org/drawingml/2006/table">
            <a:tbl>
              <a:tblPr/>
              <a:tblGrid>
                <a:gridCol w="1846080"/>
                <a:gridCol w="3249720"/>
                <a:gridCol w="354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Несовершенного 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Совершенного 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Незаконченное дей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Законченное дей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Что дела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Что сдела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От каких  глаголов образует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От основы настоящего времени глаголов несовершенного 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От основы неопределенной формы глаголов совершенного 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Суффик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-а, -я, -у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-в, -вши, -ши, -а, -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Приме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Будучи, играя, мол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2c1b"/>
                          </a:solidFill>
                          <a:latin typeface="Arial"/>
                        </a:rPr>
                        <a:t>Выскочив, выскочивши, замахнувшись, испекши, прищуряс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уйте деепричастия от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г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73000"/>
            <a:ext cx="8507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2c1b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512c1b"/>
                </a:solidFill>
                <a:latin typeface="Arial"/>
              </a:rPr>
              <a:t>Опаздывать, торопиться, побеждать, победить, баловать, обозначать, ржаветь, ворчать, прождать, успокоиться, создать, отнять, увидеть, раская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3500280"/>
            <a:ext cx="864072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. 7 класс.  М.Т.Баранов, Т.А. Ладыженская, Л.А.  Тростенцова и др. / М.: 2013. - 223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презентации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templated.ru/abstrakciya/55-zavihreniya.htm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ользователь</cp:lastModifiedBy>
  <dcterms:modified xsi:type="dcterms:W3CDTF">2016-03-24T05:53:16Z</dcterms:modified>
  <cp:revision>705</cp:revision>
  <dc:subject/>
  <dc:title>Diapositiva 1</dc:title>
</cp:coreProperties>
</file>